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6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7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18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4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5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7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1879560" y="800280"/>
            <a:ext cx="9245520" cy="70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1879560" y="5375160"/>
            <a:ext cx="9245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6617160" y="262872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18795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6617160" y="5375160"/>
            <a:ext cx="451152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500580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8131680" y="262872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187956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500580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8131680" y="5375160"/>
            <a:ext cx="2976840" cy="2507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21.xml"/><Relationship Id="rId7" Type="http://schemas.openxmlformats.org/officeDocument/2006/relationships/slideLayout" Target="../slideLayouts/slideLayout122.xml"/><Relationship Id="rId8" Type="http://schemas.openxmlformats.org/officeDocument/2006/relationships/slideLayout" Target="../slideLayouts/slideLayout123.xml"/><Relationship Id="rId9" Type="http://schemas.openxmlformats.org/officeDocument/2006/relationships/slideLayout" Target="../slideLayouts/slideLayout124.xml"/><Relationship Id="rId10" Type="http://schemas.openxmlformats.org/officeDocument/2006/relationships/slideLayout" Target="../slideLayouts/slideLayout125.xml"/><Relationship Id="rId11" Type="http://schemas.openxmlformats.org/officeDocument/2006/relationships/slideLayout" Target="../slideLayouts/slideLayout126.xml"/><Relationship Id="rId12" Type="http://schemas.openxmlformats.org/officeDocument/2006/relationships/slideLayout" Target="../slideLayouts/slideLayout127.xml"/><Relationship Id="rId13" Type="http://schemas.openxmlformats.org/officeDocument/2006/relationships/slideLayout" Target="../slideLayouts/slideLayout128.xml"/><Relationship Id="rId14" Type="http://schemas.openxmlformats.org/officeDocument/2006/relationships/slideLayout" Target="../slideLayouts/slideLayout129.xml"/><Relationship Id="rId15" Type="http://schemas.openxmlformats.org/officeDocument/2006/relationships/slideLayout" Target="../slideLayouts/slideLayout130.xml"/><Relationship Id="rId16" Type="http://schemas.openxmlformats.org/officeDocument/2006/relationships/slideLayout" Target="../slideLayouts/slideLayout131.xml"/><Relationship Id="rId17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5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091880" y="1854360"/>
            <a:ext cx="5918040" cy="3022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1219320" y="5549400"/>
            <a:ext cx="5651280" cy="1435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9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9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9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pic>
        <p:nvPicPr>
          <p:cNvPr id="399" name="" descr=""/>
          <p:cNvPicPr/>
          <p:nvPr/>
        </p:nvPicPr>
        <p:blipFill>
          <a:blip r:embed="rId5"/>
          <a:stretch/>
        </p:blipFill>
        <p:spPr>
          <a:xfrm>
            <a:off x="1409760" y="4775040"/>
            <a:ext cx="52830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6"/>
    <p:sldLayoutId id="2147483780" r:id="rId7"/>
    <p:sldLayoutId id="2147483781" r:id="rId8"/>
    <p:sldLayoutId id="2147483782" r:id="rId9"/>
    <p:sldLayoutId id="2147483783" r:id="rId10"/>
    <p:sldLayoutId id="2147483784" r:id="rId11"/>
    <p:sldLayoutId id="2147483785" r:id="rId12"/>
    <p:sldLayoutId id="2147483786" r:id="rId13"/>
    <p:sldLayoutId id="2147483787" r:id="rId14"/>
    <p:sldLayoutId id="2147483788" r:id="rId15"/>
    <p:sldLayoutId id="2147483789" r:id="rId16"/>
    <p:sldLayoutId id="2147483790" r:id="rId17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body"/>
          </p:nvPr>
        </p:nvSpPr>
        <p:spPr>
          <a:xfrm>
            <a:off x="1879560" y="1599840"/>
            <a:ext cx="9245520" cy="628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rmAutofit fontScale="85000"/>
          </a:bodyPr>
          <a:p>
            <a:pPr marL="765000" indent="-48420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1054800" indent="-45036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34388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89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2013120" indent="-415440">
              <a:spcBef>
                <a:spcPts val="2701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3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3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4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4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396800" y="5765400"/>
            <a:ext cx="10210680" cy="2032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43000"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1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2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3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4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5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  <a:p>
            <a:pPr lvl="6" algn="ctr">
              <a:buClr>
                <a:srgbClr val="000000"/>
              </a:buClr>
              <a:buFont typeface="Savoye LET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879560" y="2527200"/>
            <a:ext cx="9245520" cy="4445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81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057400" y="6426000"/>
            <a:ext cx="8889840" cy="16002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59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7861320" y="2628720"/>
            <a:ext cx="326376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46000"/>
          </a:bodyPr>
          <a:p>
            <a:pPr marL="390600" indent="-26208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547560" indent="-243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70380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89064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065960" indent="-224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3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449568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57000"/>
          </a:bodyPr>
          <a:p>
            <a:pPr marL="483840" indent="-3247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678240" indent="-3020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87228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10376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320840" indent="-2786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27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27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0000"/>
                </a:solidFill>
                <a:latin typeface="Party LET"/>
              </a:rPr>
              <a:t>Click to edit the title text format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body"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4000"/>
          </a:bodyPr>
          <a:p>
            <a:pPr marL="713160" indent="-47844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Click to edit the outline text form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1" marL="999720" indent="-44532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con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2" marL="128520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Third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3" marL="162684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our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4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Fif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5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ix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lvl="6" marL="1946520" indent="-410400">
              <a:spcBef>
                <a:spcPts val="1100"/>
              </a:spcBef>
              <a:buClr>
                <a:srgbClr val="000000"/>
              </a:buClr>
              <a:buSzPct val="62000"/>
              <a:buFont typeface="Savoye LE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Savoye LET"/>
              </a:rPr>
              <a:t>Seventh Outline Leve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3"/>
          <a:stretch/>
        </p:blipFill>
        <p:spPr>
          <a:xfrm>
            <a:off x="11480760" y="304920"/>
            <a:ext cx="1155600" cy="1130040"/>
          </a:xfrm>
          <a:prstGeom prst="rect">
            <a:avLst/>
          </a:prstGeom>
          <a:ln w="0">
            <a:noFill/>
          </a:ln>
        </p:spPr>
      </p:pic>
      <p:pic>
        <p:nvPicPr>
          <p:cNvPr id="318" name="" descr=""/>
          <p:cNvPicPr/>
          <p:nvPr/>
        </p:nvPicPr>
        <p:blipFill>
          <a:blip r:embed="rId4"/>
          <a:stretch/>
        </p:blipFill>
        <p:spPr>
          <a:xfrm>
            <a:off x="419040" y="7759800"/>
            <a:ext cx="161280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2019240" y="2565000"/>
            <a:ext cx="9245520" cy="3861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ccdf2"/>
                </a:solidFill>
                <a:latin typeface="Party LET"/>
              </a:rPr>
              <a:t>Word Work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879560" y="2120400"/>
            <a:ext cx="9245520" cy="4457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cfbbfe"/>
                </a:solidFill>
                <a:latin typeface="Party LET"/>
              </a:rPr>
              <a:t>Antonym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1739880" y="685800"/>
            <a:ext cx="9245520" cy="2540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6c7d9"/>
                </a:solidFill>
                <a:latin typeface="Party LET"/>
              </a:rPr>
              <a:t>Antonym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1879560" y="327636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ed1cf"/>
                </a:solidFill>
                <a:latin typeface="Savoye LET"/>
              </a:rPr>
              <a:t>Words that have opposite meanings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e002d"/>
                </a:solidFill>
                <a:latin typeface="Party LET"/>
              </a:rPr>
              <a:t>Antonym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Which word is an antonym for brigh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A.sunn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B.smar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C. dark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D.intelligen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3" name=""/>
          <p:cNvSpPr/>
          <p:nvPr/>
        </p:nvSpPr>
        <p:spPr>
          <a:xfrm>
            <a:off x="2298600" y="5207040"/>
            <a:ext cx="165096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e002d"/>
                </a:solidFill>
                <a:latin typeface="Savoye LET"/>
                <a:ea typeface="Savoye LET"/>
              </a:rPr>
              <a:t>C. dark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504" name="" descr=""/>
          <p:cNvPicPr/>
          <p:nvPr/>
        </p:nvPicPr>
        <p:blipFill>
          <a:blip r:embed="rId2"/>
          <a:stretch/>
        </p:blipFill>
        <p:spPr>
          <a:xfrm>
            <a:off x="5994360" y="4305240"/>
            <a:ext cx="4305240" cy="3009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ffff"/>
                </a:solidFill>
                <a:latin typeface="Party LET"/>
              </a:rPr>
              <a:t>Antonym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Which word is a antonym for comfortabl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A. uneas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B. snug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C. coz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Savoye LET"/>
              </a:rPr>
              <a:t>D. easy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07" name=""/>
          <p:cNvSpPr/>
          <p:nvPr/>
        </p:nvSpPr>
        <p:spPr>
          <a:xfrm>
            <a:off x="2362320" y="3492360"/>
            <a:ext cx="19810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500af"/>
                </a:solidFill>
                <a:latin typeface="Savoye LET"/>
                <a:ea typeface="Savoye LET"/>
              </a:rPr>
              <a:t>A. uneasy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1231920" y="2895120"/>
            <a:ext cx="9245520" cy="2273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ffffff"/>
                </a:solidFill>
                <a:latin typeface="Party LET"/>
              </a:rPr>
              <a:t>Homophone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e6f37d"/>
                </a:solidFill>
                <a:latin typeface="Party LET"/>
              </a:rPr>
              <a:t>Homophones</a:t>
            </a:r>
            <a:endParaRPr b="0" lang="en-US" sz="96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cab"/>
                </a:solidFill>
                <a:latin typeface="Savoye LET"/>
              </a:rPr>
              <a:t>Words that sound the same but have different meanings and spellings.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8184b"/>
                </a:solidFill>
                <a:latin typeface="Party LET"/>
              </a:rPr>
              <a:t>Homophone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d1cf"/>
                </a:solidFill>
                <a:latin typeface="Savoye LET"/>
              </a:rPr>
              <a:t>I could not _____ the music over all of the talking 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d1cf"/>
                </a:solidFill>
                <a:latin typeface="Savoye LET"/>
              </a:rPr>
              <a:t>A. hear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d1cf"/>
                </a:solidFill>
                <a:latin typeface="Savoye LET"/>
              </a:rPr>
              <a:t>B. her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13" name=""/>
          <p:cNvSpPr/>
          <p:nvPr/>
        </p:nvSpPr>
        <p:spPr>
          <a:xfrm>
            <a:off x="4267800" y="2673360"/>
            <a:ext cx="13708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d2067"/>
                </a:solidFill>
                <a:latin typeface="Savoye LET"/>
                <a:ea typeface="Savoye LET"/>
              </a:rPr>
              <a:t>hear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514" name="" descr=""/>
          <p:cNvPicPr/>
          <p:nvPr/>
        </p:nvPicPr>
        <p:blipFill>
          <a:blip r:embed="rId2"/>
          <a:stretch/>
        </p:blipFill>
        <p:spPr>
          <a:xfrm>
            <a:off x="6477120" y="4073400"/>
            <a:ext cx="4305240" cy="3229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003dcc"/>
                </a:solidFill>
                <a:latin typeface="Party LET"/>
              </a:rPr>
              <a:t>Homophone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c3ace"/>
                </a:solidFill>
                <a:latin typeface="Savoye LET"/>
              </a:rPr>
              <a:t>You should really ___ thirty minutes after eating to swim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c3ace"/>
                </a:solidFill>
                <a:latin typeface="Savoye LET"/>
              </a:rPr>
              <a:t>A. weigh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6c3ace"/>
                </a:solidFill>
                <a:latin typeface="Savoye LET"/>
              </a:rPr>
              <a:t>B. wai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517" name=""/>
          <p:cNvSpPr/>
          <p:nvPr/>
        </p:nvSpPr>
        <p:spPr>
          <a:xfrm>
            <a:off x="5077080" y="2647800"/>
            <a:ext cx="12520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2e6ffd"/>
                </a:solidFill>
                <a:latin typeface="Savoye LET"/>
                <a:ea typeface="Savoye LET"/>
              </a:rPr>
              <a:t>wait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2"/>
          <a:stretch/>
        </p:blipFill>
        <p:spPr>
          <a:xfrm>
            <a:off x="7467480" y="4084560"/>
            <a:ext cx="2476800" cy="329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079280" y="1320480"/>
            <a:ext cx="10845720" cy="4444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0" spc="-1" strike="noStrike">
                <a:solidFill>
                  <a:srgbClr val="f3ff98"/>
                </a:solidFill>
                <a:latin typeface="Party LET"/>
              </a:rPr>
              <a:t>Multiple Meaning Words</a:t>
            </a:r>
            <a:endParaRPr b="0" lang="en-US" sz="120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1879560" y="799920"/>
            <a:ext cx="9245520" cy="28191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ade9f2"/>
                </a:solidFill>
                <a:latin typeface="Party LET"/>
              </a:rPr>
              <a:t>What is a multiple meaning word?</a:t>
            </a:r>
            <a:endParaRPr b="0" lang="en-US" sz="96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2082960" y="3403440"/>
            <a:ext cx="9245520" cy="47498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d5fc"/>
                </a:solidFill>
                <a:latin typeface="Comic Sans MS"/>
                <a:ea typeface="Comic Sans MS"/>
              </a:rPr>
              <a:t>Words that have more than one meaning.  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bd5fc"/>
                </a:solidFill>
                <a:latin typeface="Comic Sans MS"/>
                <a:ea typeface="Comic Sans MS"/>
              </a:rPr>
              <a:t>The meaning of the word depends upon how it is used in the sentence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2082960" y="774720"/>
            <a:ext cx="9245520" cy="1765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f691e"/>
                </a:solidFill>
                <a:latin typeface="Party LET"/>
              </a:rPr>
              <a:t>Try some Multiple Meaning Words</a:t>
            </a:r>
            <a:endParaRPr b="0" lang="en-US" sz="72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2082960" y="3060720"/>
            <a:ext cx="9245520" cy="57657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6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Name the word that fits best in both blanks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The teachers eat lunch in the teacher’s _____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I _____ on my couch when I am tired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A. cafeteria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effcc"/>
                </a:solidFill>
                <a:latin typeface="Savoye LET"/>
              </a:rPr>
              <a:t>B. room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1b9"/>
                </a:solidFill>
                <a:latin typeface="Savoye LET"/>
              </a:rPr>
              <a:t>C. li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cf1b9"/>
                </a:solidFill>
                <a:latin typeface="Savoye LET"/>
              </a:rPr>
              <a:t>D. loung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81" name=""/>
          <p:cNvSpPr/>
          <p:nvPr/>
        </p:nvSpPr>
        <p:spPr>
          <a:xfrm>
            <a:off x="2019240" y="8229600"/>
            <a:ext cx="30733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f691e"/>
                </a:solidFill>
                <a:latin typeface="Savoye LET"/>
                <a:ea typeface="Savoye LET"/>
              </a:rPr>
              <a:t>D. lounge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82" name="" descr=""/>
          <p:cNvPicPr/>
          <p:nvPr/>
        </p:nvPicPr>
        <p:blipFill>
          <a:blip r:embed="rId2"/>
          <a:stretch/>
        </p:blipFill>
        <p:spPr>
          <a:xfrm>
            <a:off x="7175520" y="5626080"/>
            <a:ext cx="3708360" cy="27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8184b"/>
                </a:solidFill>
                <a:latin typeface="Party LET"/>
              </a:rPr>
              <a:t>Try Again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6794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90000"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I am going to ____ the cows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Kim likes to drink the ____  from her bowl when she is done eating her cereal.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A. ea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B. milk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C. feed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cab"/>
                </a:solidFill>
                <a:latin typeface="Savoye LET"/>
              </a:rPr>
              <a:t>D. water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85" name=""/>
          <p:cNvSpPr/>
          <p:nvPr/>
        </p:nvSpPr>
        <p:spPr>
          <a:xfrm>
            <a:off x="2146320" y="6807240"/>
            <a:ext cx="191772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6133e"/>
                </a:solidFill>
                <a:latin typeface="Savoye LET"/>
                <a:ea typeface="Savoye LET"/>
              </a:rPr>
              <a:t>B. milk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86" name="" descr=""/>
          <p:cNvPicPr/>
          <p:nvPr/>
        </p:nvPicPr>
        <p:blipFill>
          <a:blip r:embed="rId2"/>
          <a:stretch/>
        </p:blipFill>
        <p:spPr>
          <a:xfrm>
            <a:off x="7074000" y="5372280"/>
            <a:ext cx="3441600" cy="3441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879560" y="3683160"/>
            <a:ext cx="9245520" cy="2908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e6f37d"/>
                </a:solidFill>
                <a:latin typeface="Party LET"/>
              </a:rPr>
              <a:t>Synonym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1879560" y="799920"/>
            <a:ext cx="9245520" cy="25779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400" spc="-1" strike="noStrike">
                <a:solidFill>
                  <a:srgbClr val="cadbfe"/>
                </a:solidFill>
                <a:latin typeface="Party LET"/>
              </a:rPr>
              <a:t>Synonyms</a:t>
            </a:r>
            <a:endParaRPr b="0" lang="en-US" sz="14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1879560" y="347940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cadbfe"/>
                </a:solidFill>
                <a:latin typeface="Savoye LET"/>
              </a:rPr>
              <a:t>Words that have similar meanings</a:t>
            </a:r>
            <a:r>
              <a:rPr b="0" lang="en-US" sz="7200" spc="-1" strike="noStrike">
                <a:solidFill>
                  <a:srgbClr val="000000"/>
                </a:solidFill>
                <a:latin typeface="Savoye LET"/>
              </a:rPr>
              <a:t>.</a:t>
            </a:r>
            <a:endParaRPr b="0" lang="en-US" sz="7200" spc="-1" strike="noStrike">
              <a:solidFill>
                <a:srgbClr val="000000"/>
              </a:solidFill>
              <a:latin typeface="Savoye LE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3b00a4"/>
                </a:solidFill>
                <a:latin typeface="Party LET"/>
              </a:rPr>
              <a:t>Synonym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Which word is a synonym for push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A. shov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B. pull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C. smack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D. trip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92" name=""/>
          <p:cNvSpPr/>
          <p:nvPr/>
        </p:nvSpPr>
        <p:spPr>
          <a:xfrm>
            <a:off x="1974600" y="3524040"/>
            <a:ext cx="25045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3b00a4"/>
                </a:solidFill>
                <a:latin typeface="Savoye LET"/>
                <a:ea typeface="Savoye LET"/>
              </a:rPr>
              <a:t>A. shove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6680160" y="4203720"/>
            <a:ext cx="4119480" cy="2616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879560" y="800280"/>
            <a:ext cx="9245520" cy="1511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a8184b"/>
                </a:solidFill>
                <a:latin typeface="Party LET"/>
              </a:rPr>
              <a:t>Synonyms</a:t>
            </a:r>
            <a:endParaRPr b="0" lang="en-US" sz="8400" spc="-1" strike="noStrike">
              <a:solidFill>
                <a:srgbClr val="000000"/>
              </a:solidFill>
              <a:latin typeface="Party LET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1879560" y="2628720"/>
            <a:ext cx="9245520" cy="52578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Which word is a synonym for alik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A. different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B.similar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C. opposit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  <a:p>
            <a:pPr indent="0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1fff2"/>
                </a:solidFill>
                <a:latin typeface="Savoye LET"/>
              </a:rPr>
              <a:t>D. love</a:t>
            </a:r>
            <a:endParaRPr b="0" lang="en-US" sz="4800" spc="-1" strike="noStrike">
              <a:solidFill>
                <a:srgbClr val="000000"/>
              </a:solidFill>
              <a:latin typeface="Savoye LET"/>
            </a:endParaRPr>
          </a:p>
        </p:txBody>
      </p:sp>
      <p:sp>
        <p:nvSpPr>
          <p:cNvPr id="496" name=""/>
          <p:cNvSpPr/>
          <p:nvPr/>
        </p:nvSpPr>
        <p:spPr>
          <a:xfrm>
            <a:off x="2273400" y="4343400"/>
            <a:ext cx="1968480" cy="85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86133e"/>
                </a:solidFill>
                <a:latin typeface="Savoye LET"/>
                <a:ea typeface="Savoye LET"/>
              </a:rPr>
              <a:t>B.similar</a:t>
            </a:r>
            <a:endParaRPr b="0" lang="en-US" sz="5000" spc="-1" strike="noStrike">
              <a:solidFill>
                <a:srgbClr val="000000"/>
              </a:solidFill>
              <a:latin typeface="Savoye LET"/>
            </a:endParaRPr>
          </a:p>
        </p:txBody>
      </p:sp>
      <p:pic>
        <p:nvPicPr>
          <p:cNvPr id="497" name="" descr=""/>
          <p:cNvPicPr/>
          <p:nvPr/>
        </p:nvPicPr>
        <p:blipFill>
          <a:blip r:embed="rId2"/>
          <a:stretch/>
        </p:blipFill>
        <p:spPr>
          <a:xfrm>
            <a:off x="6705720" y="3892680"/>
            <a:ext cx="2844720" cy="34081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